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E90A-0AAA-41F4-99A7-E419CC409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326D-E3A8-4AEE-BE3A-09D36F221C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287A-CC67-4C50-BA2F-E59D02CB10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TE listserv story on getting a college job. Promised you that reality checks would be balanced with action opportunit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 22 of career building—you need experience to get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say, this is great—except I haven’t really DONE anything yet/don’t have any professional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and am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ing holes. Professional students get good at responding to others’ demands, fulfilling requirements, discerning how to ‘get the A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o-called ‘real’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the shift to being in charge of your own career, taking the initiative, not waiting for the phone to 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B4AF-310A-4C7B-AA06-AA32209254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your resume to several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 spelling—special care with people’s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consistent with punctuation—and keep that simple—minimize semi-colons or elaborate punctuation systems. underlining,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clutter—parentheses, too many layers of commas, semi-colons, colons. Underlining is a holdover from typewriters (few op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ssy, poorly edited resume tells the prospective employer legions about you—if you don’t take care presenting YOURSELF, how will you present/relate to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pkin resume” sketched out quickly—content over form ;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learn about this pers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5DCF-CFF0-485F-A246-D0DF9CD619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64E6-BF1C-4CD0-8F7E-43836FD98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CV-writing handout if you plan to look for work in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67BC-CAD9-4409-BD55-33451756AE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CaLM p.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ter—everything you can think of/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g—specialty, high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formance resume may mention teaching (but with little detail). The teaching resume fleshes out the teaching experiences and just mentions the performanc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 suggestions via email to others in your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8915-0157-4798-880B-1B5FCB5A5C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piece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ing—who has the goods? Experience, training, specific skills to fit the job (over or under qualified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ood looking resume won’t make up for poor training and no experien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ooking resume looks profess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; may help you get to the nex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—resume is not the place to be modest or s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 h.s. experience (unless major competitions, awa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versions for different aspects of your career (one for performing, one for teaching, for ex); then tailor each one to the specific position you are seeking—many of you have already don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7FFE-3978-4C65-922A-6906521625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” Examples. Face down on desk. Turn over, 10” scan. What do you reme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should they look longer at yours? What will set you apart? Get you to the next le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you make an individual impact when there may be a stack of applicants 2 inches thick? Best advice—always imagine your application as part of a huge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rue—all that work prepping and primping your resume—for a cursory g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our topic for toda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on the board—then brainstorm (from Eastman list) to fil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—schools/degrees/+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—bands/venues/leaders/tours/recording/show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; profess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skills—software; writing; repair; languages; teaching; arranging; compo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ture some categories that work for you and start filling in th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B9D5-E2EB-4FD6-8F11-FFA15B2B38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7A6C-FBFB-4330-B349-994C88986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resumes are 1 page—goal is to get the audition opportunity. Keep it succin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t the top for awhile, especially if your experience is limited—school IS your experience at that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ly verbs—also quality and quantity verbs “Played with Grammy winner Ms X five times on tour in Europe to critical acclaim” Then include the re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info on the left: show example of both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uality neutral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t your ho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ume in a stack o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any high school references—even cool ones like all-state—unless you won a huge competition. Sadly perhaps, h.s. importance drops away quickly once you grad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277C-4C36-4B9E-AD8D-8FE6961522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017-534F-4374-9451-0BDC5B19D4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ed local band directors and offered to do workshops on their instruments—led to private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he same with chamber ensem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sub auditions, commission new music, record a cd (how to be unique), enter competitions, audition to appear at conferences, do an exchange concert with a friend in another part of the country; get on performing arts ro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eer with an arts organization you’re interested in—ditto for inter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’re a designer, consider pro bono or bartered projects to build your professional portfolio of work, meet others, gain vi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9E5-D014-4294-826F-6C4C3354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EA1-5425-4902-90F6-41CC4B2B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A09-0288-41AA-9A3C-78E8739B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B0E-245D-48ED-A57E-43422ED3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A14-6C2E-4EF3-A4FD-F1F38895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41F-30F3-438B-A9D4-1CC336D5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078-B488-4D8B-B08E-0F37AFAC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1BB-E518-4AD0-A1F8-ECC3B0A5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9E4-4FB2-4D8C-ABE2-E1B63853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CBA-F15E-47B7-8777-30D7ABBA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44F-C3AF-40F1-BD35-980383E6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F84-28DF-466B-9643-2AF6899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C7F9-3331-4F42-BED1-D56429C75D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95280" y="-36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Eras Demi ITC"/>
              </a:rPr>
              <a:t>Résumé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Eras Demi ITC"/>
              </a:rPr>
              <a:t>Tips for Music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crossroads.jpg"/>
          <p:cNvPicPr/>
          <p:nvPr/>
        </p:nvPicPr>
        <p:blipFill>
          <a:blip r:embed="rId1"/>
          <a:stretch/>
        </p:blipFill>
        <p:spPr>
          <a:xfrm>
            <a:off x="1828800" y="1752480"/>
            <a:ext cx="5791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Eras Demi ITC"/>
              </a:rPr>
              <a:t>BUILDING your résumé, con’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how initiative and am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How can you fill ho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your experienc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backgr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inding and creating opport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7" descr="construction2"/>
          <p:cNvPicPr/>
          <p:nvPr/>
        </p:nvPicPr>
        <p:blipFill>
          <a:blip r:embed="rId1"/>
          <a:stretch/>
        </p:blipFill>
        <p:spPr>
          <a:xfrm>
            <a:off x="4191120" y="1828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	</a:t>
            </a:r>
            <a:r>
              <a:rPr b="0" lang="en-US" sz="6600" spc="-1" strike="noStrike">
                <a:solidFill>
                  <a:srgbClr val="ff3300"/>
                </a:solidFill>
                <a:latin typeface="Eras Demi ITC"/>
              </a:rPr>
              <a:t>EDIT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sotp"/>
          <p:cNvPicPr/>
          <p:nvPr/>
        </p:nvPicPr>
        <p:blipFill>
          <a:blip r:embed="rId1"/>
          <a:stretch/>
        </p:blipFill>
        <p:spPr>
          <a:xfrm rot="823800">
            <a:off x="3733920" y="838080"/>
            <a:ext cx="46767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resume"/>
          <p:cNvPicPr/>
          <p:nvPr/>
        </p:nvPicPr>
        <p:blipFill>
          <a:blip r:embed="rId1"/>
          <a:stretch/>
        </p:blipFill>
        <p:spPr>
          <a:xfrm>
            <a:off x="1785960" y="0"/>
            <a:ext cx="55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5715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ras Demi ITC"/>
              </a:rPr>
              <a:t>Curriculum Vita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ac00cf"/>
                </a:solidFill>
                <a:latin typeface="Eras Demi ITC"/>
              </a:rPr>
              <a:t>Latin for "course of life"</a:t>
            </a:r>
            <a:r>
              <a:rPr b="0" lang="en-US" sz="4000" spc="-1" strike="noStrike">
                <a:solidFill>
                  <a:srgbClr val="ac00c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known as a “C.V.” or “Vita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e detailed résum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resume “bucket”—store everything you’ve done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specialized résumés off your 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Eras Demi ITC"/>
              </a:rPr>
              <a:t>Résumé Assignmen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(or revise)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2 Resu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ster Resume (C.V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 page specialty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ring draft to class on 10/6 or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Eras Demi ITC"/>
              </a:rPr>
              <a:t>Wh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intro pie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t your 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Toot-Your-Own-Horn"/>
          <p:cNvPicPr/>
          <p:nvPr/>
        </p:nvPicPr>
        <p:blipFill>
          <a:blip r:embed="rId1"/>
          <a:stretch/>
        </p:blipFill>
        <p:spPr>
          <a:xfrm>
            <a:off x="5181480" y="1523880"/>
            <a:ext cx="3700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Eras Demi ITC"/>
              </a:rPr>
              <a:t>Really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résumé is scanned for no more tha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8 – 10 SECO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Content Placeholder 7" descr="resumestack2.jpg"/>
          <p:cNvPicPr/>
          <p:nvPr/>
        </p:nvPicPr>
        <p:blipFill>
          <a:blip r:embed="rId1"/>
          <a:srcRect l="-17685" t="0" r="-17685" b="0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badi MT Condensed Extra Bold"/>
                <a:ea typeface="Abadi MT Condensed Extra Bold"/>
              </a:rPr>
              <a:t>Categories</a:t>
            </a:r>
            <a:endParaRPr b="0" lang="en-US" sz="7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resumesample2.jpg"/>
          <p:cNvPicPr/>
          <p:nvPr/>
        </p:nvPicPr>
        <p:blipFill>
          <a:blip r:embed="rId1"/>
          <a:stretch/>
        </p:blipFill>
        <p:spPr>
          <a:xfrm>
            <a:off x="1701720" y="0"/>
            <a:ext cx="574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Résumé ‘Riting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Eras Demi ITC"/>
              </a:rPr>
              <a:t>Quick Tip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 catching but simpl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font “logo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your skil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ch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hei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info on the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DF for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noH.S..jpg"/>
          <p:cNvPicPr/>
          <p:nvPr/>
        </p:nvPicPr>
        <p:blipFill>
          <a:blip r:embed="rId1"/>
          <a:stretch/>
        </p:blipFill>
        <p:spPr>
          <a:xfrm>
            <a:off x="1886040" y="990720"/>
            <a:ext cx="5205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on’t include miscellaneous job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99"/>
                </a:solidFill>
                <a:latin typeface="Eras Demi ITC"/>
              </a:rPr>
              <a:t>Résumé a little thin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—studio, works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 outside of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in professional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nteer at concerts, mastercla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ships, related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savvy about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 articles, songs, arrangements, adjudicate,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You’re limited only by your creativit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French Script MT"/>
              </a:rPr>
              <a:t>And time, of cours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sun&amp;stars.jpg"/>
          <p:cNvPicPr/>
          <p:nvPr/>
        </p:nvPicPr>
        <p:blipFill>
          <a:blip r:embed="rId1"/>
          <a:stretch/>
        </p:blipFill>
        <p:spPr>
          <a:xfrm>
            <a:off x="5040360" y="1371600"/>
            <a:ext cx="41036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4:49:34Z</dcterms:created>
  <dc:creator>HP Authorized Customer</dc:creator>
  <dc:description/>
  <dc:language>en-US</dc:language>
  <cp:lastModifiedBy>McNally Smith</cp:lastModifiedBy>
  <dcterms:modified xsi:type="dcterms:W3CDTF">2010-10-02T20:52:01Z</dcterms:modified>
  <cp:revision>50</cp:revision>
  <dc:subject/>
  <dc:title>Résumés</dc:title>
</cp:coreProperties>
</file>